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2004000" cy="22632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EBD1-299F-435D-AB33-2F29B981D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272034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00120" y="13631040"/>
            <a:ext cx="272034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2FAB-F7A2-47AA-855F-EBF01BE85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00120" y="13631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339320" y="13631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3124-A12C-47EA-943D-D96D81DE6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597760" y="6539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0795040" y="6539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00120" y="13631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597760" y="13631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0795040" y="13631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14A8-20E1-44D3-8CEA-2AA920C02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00120" y="6539040"/>
            <a:ext cx="27203400" cy="135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C7D5-335B-44C0-81D5-1A44BC755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272034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0C09-6585-4B7D-99FE-F0F673FBD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2FCE-B89A-4112-B523-6DD0D1C93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2A97-5A15-4ED3-8B5E-4484F90F3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00120" y="2009880"/>
            <a:ext cx="27203400" cy="1749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FBEF-3E10-4B01-BA58-57F4C504B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00120" y="13631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C9DA-E8A8-431F-8310-E4F14272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339320" y="13631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5CD7-582A-4D45-BE13-ECEF3564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00120" y="13631040"/>
            <a:ext cx="272034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E7EC-EFD4-4444-95E3-044A56D2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10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00120" y="6539040"/>
            <a:ext cx="272034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marL="846000" indent="-84600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1" marL="1835280" indent="-70344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2" marL="2824200" indent="-56520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3" marL="3956040" indent="-56520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4" marL="5084640" indent="-56196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5" marL="5084640" indent="-56196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6" marL="5084640" indent="-56196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00480" y="20621160"/>
            <a:ext cx="6667200" cy="15066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Autofit/>
          </a:bodyPr>
          <a:lstStyle>
            <a:lvl1pPr indent="0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  <a:defRPr b="0" lang="en-US" sz="3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934640" y="20621160"/>
            <a:ext cx="10134720" cy="15066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Autofit/>
          </a:bodyPr>
          <a:lstStyle>
            <a:lvl1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  <a:defRPr b="0" lang="en-US" sz="3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935960" y="20621160"/>
            <a:ext cx="6667560" cy="15066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Autofit/>
          </a:bodyPr>
          <a:lstStyle>
            <a:lvl1pPr indent="0" algn="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  <a:defRPr b="0" lang="en-US" sz="3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fld id="{D1E84E1D-7252-44C3-BCB8-123E61F958E8}" type="slidenum"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641680" y="5410080"/>
            <a:ext cx="35892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6240" rIns="66240" tIns="33120" bIns="33120" anchor="t">
            <a:spAutoFit/>
          </a:bodyPr>
          <a:p>
            <a:pPr>
              <a:tabLst>
                <a:tab algn="l" pos="0"/>
                <a:tab algn="l" pos="663480"/>
                <a:tab algn="l" pos="1327320"/>
                <a:tab algn="l" pos="1990800"/>
                <a:tab algn="l" pos="2654280"/>
                <a:tab algn="l" pos="3317760"/>
                <a:tab algn="l" pos="3981600"/>
                <a:tab algn="l" pos="4645080"/>
                <a:tab algn="l" pos="5308560"/>
                <a:tab algn="l" pos="5972040"/>
                <a:tab algn="l" pos="6635880"/>
                <a:tab algn="l" pos="7299360"/>
                <a:tab algn="l" pos="7962840"/>
                <a:tab algn="l" pos="8626320"/>
                <a:tab algn="l" pos="9290160"/>
                <a:tab algn="l" pos="9953640"/>
                <a:tab algn="l" pos="106171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503280"/>
            <a:ext cx="32004000" cy="21366000"/>
            <a:chOff x="0" y="503280"/>
            <a:chExt cx="32004000" cy="21366000"/>
          </a:xfrm>
        </p:grpSpPr>
        <p:sp>
          <p:nvSpPr>
            <p:cNvPr id="43" name=""/>
            <p:cNvSpPr/>
            <p:nvPr/>
          </p:nvSpPr>
          <p:spPr>
            <a:xfrm>
              <a:off x="738360" y="1596960"/>
              <a:ext cx="30351240" cy="202723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3240" rIns="93240" tIns="46440" bIns="46440" anchor="ctr">
              <a:noAutofit/>
            </a:bodyPr>
            <a:p>
              <a:pPr algn="ctr"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92120" y="503280"/>
              <a:ext cx="30721320" cy="70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240" rIns="93240" tIns="46440" bIns="46440" anchor="t">
              <a:spAutoFit/>
            </a:bodyPr>
            <a:p>
              <a:pPr algn="ctr"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Омский Государственный Технический Университет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3399560" y="20269080"/>
              <a:ext cx="17143200" cy="14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240" rIns="93240" tIns="46440" bIns="46440" anchor="t">
              <a:spAutoFit/>
            </a:bodyPr>
            <a:p>
              <a:pPr algn="r"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i="1" lang="ru-RU" sz="4400" spc="-1" strike="noStrike">
                  <a:solidFill>
                    <a:srgbClr val="000000"/>
                  </a:solidFill>
                  <a:latin typeface="Times New Roman"/>
                </a:rPr>
                <a:t>Разработал: студент АСОИУ Геттих М.В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i="1" lang="ru-RU" sz="4400" spc="-1" strike="noStrike">
                  <a:solidFill>
                    <a:srgbClr val="000000"/>
                  </a:solidFill>
                  <a:latin typeface="Times New Roman"/>
                </a:rPr>
                <a:t>Руководитель: Гл.конструктор НПО «Автоматика» Чегодаев В.Н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1938240"/>
              <a:ext cx="320040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240" rIns="93240" tIns="46440" bIns="46440" anchor="t">
              <a:spAutoFit/>
            </a:bodyPr>
            <a:p>
              <a:pPr algn="ctr"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en-US" sz="6000" spc="-1" strike="noStrike">
                  <a:solidFill>
                    <a:srgbClr val="3333cc"/>
                  </a:solidFill>
                  <a:latin typeface="Times New Roman"/>
                </a:rPr>
                <a:t>Дипломный проект</a:t>
              </a:r>
              <a:r>
                <a:rPr b="0" lang="en-US" sz="45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br>
                <a:rPr sz="3600"/>
              </a:br>
              <a:r>
                <a:rPr b="0" lang="en-US" sz="36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 Разработка системы по сбору информации о доходах физических лиц для формирования отчетности в ГНИ РФ по объединению СургутГазПром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76360" y="20954880"/>
              <a:ext cx="370512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240" rIns="93240" tIns="46440" bIns="4644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</a:rPr>
                <a:t>Сургут 1999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448280" y="3505320"/>
              <a:ext cx="9535320" cy="916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3240" rIns="93240" tIns="46440" bIns="4644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Внедрение системы позволит: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621480" y="17525880"/>
              <a:ext cx="8861400" cy="26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240" rIns="93240" tIns="46440" bIns="46440" anchor="t">
              <a:spAutoFit/>
            </a:bodyPr>
            <a:p>
              <a:pPr>
                <a:spcBef>
                  <a:spcPts val="2038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4400" spc="-1" strike="noStrike">
                  <a:solidFill>
                    <a:srgbClr val="000000"/>
                  </a:solidFill>
                  <a:latin typeface="Times New Roman"/>
                </a:rPr>
                <a:t>Стоимость разработки</a:t>
              </a: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ru-RU" sz="4400" spc="-1" strike="noStrike">
                  <a:solidFill>
                    <a:srgbClr val="000000"/>
                  </a:solidFill>
                  <a:latin typeface="Times New Roman"/>
                </a:rPr>
                <a:t> 68 000 руб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38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4400" spc="-1" strike="noStrike">
                  <a:solidFill>
                    <a:srgbClr val="000000"/>
                  </a:solidFill>
                  <a:latin typeface="Times New Roman"/>
                </a:rPr>
                <a:t>Срок окупаемости 8 мес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38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4400" spc="-1" strike="noStrike">
                  <a:solidFill>
                    <a:srgbClr val="000000"/>
                  </a:solidFill>
                  <a:latin typeface="Times New Roman"/>
                </a:rPr>
                <a:t>Платформа: </a:t>
              </a: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Windows 98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0" name=""/>
            <p:cNvGraphicFramePr/>
            <p:nvPr/>
          </p:nvGraphicFramePr>
          <p:xfrm>
            <a:off x="10287000" y="8610480"/>
            <a:ext cx="13235040" cy="660096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5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0287000" y="8610480"/>
                      <a:ext cx="13235040" cy="660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" name=""/>
            <p:cNvSpPr/>
            <p:nvPr/>
          </p:nvSpPr>
          <p:spPr>
            <a:xfrm>
              <a:off x="1371600" y="4572000"/>
              <a:ext cx="15849720" cy="3762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3240" rIns="93240" tIns="46440" bIns="46440" anchor="t">
              <a:spAutoFit/>
            </a:bodyPr>
            <a:p>
              <a:pPr>
                <a:lnSpc>
                  <a:spcPts val="7223"/>
                </a:lnSpc>
                <a:buClr>
                  <a:srgbClr val="0000ff"/>
                </a:buClr>
                <a:buFont typeface="Monotype Sorts" charset="2"/>
                <a:buChar char=""/>
                <a:tabLst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en-US" sz="6600" spc="-1" strike="noStrike">
                  <a:solidFill>
                    <a:srgbClr val="ff3300"/>
                  </a:solidFill>
                  <a:latin typeface="Times New Roman"/>
                </a:rPr>
                <a:t>Подготовить отчеты в ГНИ за 1 день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7223"/>
                </a:lnSpc>
                <a:buClr>
                  <a:srgbClr val="0000ff"/>
                </a:buClr>
                <a:buFont typeface="Monotype Sorts" charset="2"/>
                <a:buChar char=""/>
                <a:tabLst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en-US" sz="6600" spc="-1" strike="noStrike">
                  <a:solidFill>
                    <a:srgbClr val="ff3300"/>
                  </a:solidFill>
                  <a:latin typeface="Times New Roman"/>
                </a:rPr>
                <a:t>Резко снизить вероятность штрафов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7223"/>
                </a:lnSpc>
                <a:buClr>
                  <a:srgbClr val="0000ff"/>
                </a:buClr>
                <a:buFont typeface="Monotype Sorts" charset="2"/>
                <a:buChar char=""/>
                <a:tabLst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en-US" sz="6600" spc="-1" strike="noStrike">
                  <a:solidFill>
                    <a:srgbClr val="ff3300"/>
                  </a:solidFill>
                  <a:latin typeface="Times New Roman"/>
                </a:rPr>
                <a:t>Получить полную информацию о заработной плате в любом разрезе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292400" y="10134720"/>
              <a:ext cx="6856200" cy="809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3240" rIns="93240" tIns="46440" bIns="4644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en-US" sz="4700" spc="-1" strike="noStrike">
                  <a:solidFill>
                    <a:srgbClr val="000000"/>
                  </a:solidFill>
                  <a:latin typeface="Times New Roman"/>
                </a:rPr>
                <a:t>Основные возможности:</a:t>
              </a:r>
              <a:endParaRPr b="0" lang="en-US" sz="4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06640" y="10972800"/>
              <a:ext cx="10935360" cy="51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5640" rIns="215640" tIns="108000" bIns="108000" anchor="t">
              <a:spAutoFit/>
            </a:bodyPr>
            <a:p>
              <a:pPr>
                <a:buClr>
                  <a:srgbClr val="3333cc"/>
                </a:buClr>
                <a:buFont typeface="Monotype Sorts" charset="2"/>
                <a:buChar char=""/>
                <a:tabLst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5400" spc="-1" strike="noStrike">
                  <a:solidFill>
                    <a:srgbClr val="0000ff"/>
                  </a:solidFill>
                  <a:latin typeface="Times New Roman"/>
                </a:rPr>
                <a:t>Сбор информации о доходах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3333cc"/>
                </a:buClr>
                <a:buFont typeface="Monotype Sorts" charset="2"/>
                <a:buChar char=""/>
                <a:tabLst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5400" spc="-1" strike="noStrike">
                  <a:solidFill>
                    <a:srgbClr val="0000ff"/>
                  </a:solidFill>
                  <a:latin typeface="Times New Roman"/>
                </a:rPr>
                <a:t>Перерасчет подоходного налога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3333cc"/>
                </a:buClr>
                <a:buFont typeface="Monotype Sorts" charset="2"/>
                <a:buChar char=""/>
                <a:tabLst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5400" spc="-1" strike="noStrike">
                  <a:solidFill>
                    <a:srgbClr val="0000ff"/>
                  </a:solidFill>
                  <a:latin typeface="Times New Roman"/>
                </a:rPr>
                <a:t>Формирование отчетов в ГНИ РФ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3333cc"/>
                </a:buClr>
                <a:buFont typeface="Monotype Sorts" charset="2"/>
                <a:buChar char=""/>
                <a:tabLst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5400" spc="-1" strike="noStrike">
                  <a:solidFill>
                    <a:srgbClr val="0000ff"/>
                  </a:solidFill>
                  <a:latin typeface="Times New Roman"/>
                </a:rPr>
                <a:t>Выдача отчетов для ОТиЗ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3333cc"/>
                </a:buClr>
                <a:buFont typeface="Monotype Sorts" charset="2"/>
                <a:buChar char=""/>
                <a:tabLst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5400" spc="-1" strike="noStrike">
                  <a:solidFill>
                    <a:srgbClr val="0000ff"/>
                  </a:solidFill>
                  <a:latin typeface="Times New Roman"/>
                </a:rPr>
                <a:t>Работа с плановым отделом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5400" spc="-1" strike="noStrike">
                  <a:solidFill>
                    <a:srgbClr val="0000ff"/>
                  </a:solidFill>
                  <a:latin typeface="Times New Roman"/>
                </a:rPr>
                <a:t>(в перспективе)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6740360" y="6035760"/>
              <a:ext cx="4431960" cy="2009520"/>
            </a:xfrm>
            <a:prstGeom prst="wedgeRoundRectCallout">
              <a:avLst>
                <a:gd name="adj1" fmla="val -85671"/>
                <a:gd name="adj2" fmla="val 246842"/>
                <a:gd name="adj3" fmla="val 16667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00ff00"/>
                </a:gs>
              </a:gsLst>
              <a:lin ang="5400000"/>
            </a:gradFill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5640" rIns="215640" tIns="108000" bIns="108000" anchor="ctr">
              <a:noAutofit/>
            </a:bodyPr>
            <a:p>
              <a:pPr algn="ctr">
                <a:tabLst>
                  <a:tab algn="l" pos="0"/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Times New Roman"/>
                </a:rPr>
                <a:t>День внедрения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Times New Roman"/>
                </a:rPr>
                <a:t>системы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20421720" y="4419720"/>
              <a:ext cx="10744200" cy="15479280"/>
              <a:chOff x="20421720" y="4419720"/>
              <a:chExt cx="10744200" cy="15479280"/>
            </a:xfrm>
          </p:grpSpPr>
          <p:sp>
            <p:nvSpPr>
              <p:cNvPr id="57" name=""/>
              <p:cNvSpPr/>
              <p:nvPr/>
            </p:nvSpPr>
            <p:spPr>
              <a:xfrm flipH="1" flipV="1">
                <a:off x="24302520" y="15355800"/>
                <a:ext cx="5262840" cy="2517840"/>
              </a:xfrm>
              <a:prstGeom prst="line">
                <a:avLst/>
              </a:prstGeom>
              <a:ln w="152280">
                <a:solidFill>
                  <a:srgbClr val="0000ff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0421720" y="19318320"/>
                <a:ext cx="102106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240" rIns="93240" tIns="46440" bIns="46440" anchor="t">
                <a:sp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Компьютеры в бухгалтериях подразделений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5146000" y="13868280"/>
                <a:ext cx="2867040" cy="70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240" rIns="93240" tIns="46440" bIns="46440" anchor="t">
                <a:sp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Сервер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8200240" y="17108640"/>
                <a:ext cx="2473560" cy="223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 flipV="1">
                <a:off x="21713760" y="15355440"/>
                <a:ext cx="2589120" cy="2367000"/>
              </a:xfrm>
              <a:prstGeom prst="line">
                <a:avLst/>
              </a:prstGeom>
              <a:ln w="152280">
                <a:solidFill>
                  <a:srgbClr val="0000ff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H="1" flipV="1">
                <a:off x="24302880" y="15355800"/>
                <a:ext cx="1144800" cy="2438640"/>
              </a:xfrm>
              <a:prstGeom prst="line">
                <a:avLst/>
              </a:prstGeom>
              <a:ln w="152280">
                <a:solidFill>
                  <a:srgbClr val="0000ff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4312600" y="17108640"/>
                <a:ext cx="2473200" cy="223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0570760" y="17184600"/>
                <a:ext cx="2373480" cy="2143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7273240" y="9713880"/>
                <a:ext cx="3305160" cy="345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3393520" y="5070600"/>
                <a:ext cx="3295440" cy="344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"/>
              <p:cNvSpPr/>
              <p:nvPr/>
            </p:nvSpPr>
            <p:spPr>
              <a:xfrm flipV="1">
                <a:off x="24534720" y="11239560"/>
                <a:ext cx="3430800" cy="1906560"/>
              </a:xfrm>
              <a:prstGeom prst="line">
                <a:avLst/>
              </a:prstGeom>
              <a:ln w="15228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V="1">
                <a:off x="24456960" y="8421480"/>
                <a:ext cx="231840" cy="4267080"/>
              </a:xfrm>
              <a:prstGeom prst="line">
                <a:avLst/>
              </a:prstGeom>
              <a:ln w="152280">
                <a:solidFill>
                  <a:srgbClr val="008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57480" y="5146560"/>
                <a:ext cx="3295440" cy="344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" name=""/>
              <p:cNvSpPr/>
              <p:nvPr/>
            </p:nvSpPr>
            <p:spPr>
              <a:xfrm flipV="1">
                <a:off x="24456960" y="8373600"/>
                <a:ext cx="3016440" cy="4467240"/>
              </a:xfrm>
              <a:prstGeom prst="line">
                <a:avLst/>
              </a:prstGeom>
              <a:ln cap="rnd" w="152280">
                <a:solidFill>
                  <a:srgbClr val="3333cc"/>
                </a:solidFill>
                <a:custDash>
                  <a:ds d="100000" sp="1000"/>
                </a:custDash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7211320" y="8763120"/>
                <a:ext cx="3954600" cy="106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240" rIns="93240" tIns="46440" bIns="46440" anchor="t">
                <a:sp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Отдел налоговой политики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6744760" y="4600440"/>
                <a:ext cx="44211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240" rIns="93240" tIns="46440" bIns="46440" anchor="t">
                <a:sp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Плановый отдел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2783680" y="4419720"/>
                <a:ext cx="44211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240" rIns="93240" tIns="46440" bIns="46440" anchor="t">
                <a:sp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Отдел ОТиЗ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7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2704480" y="11923560"/>
                <a:ext cx="3305160" cy="3456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0T07:44:58Z</dcterms:created>
  <dc:creator>Andrey Lyashenko</dc:creator>
  <dc:description/>
  <dc:language>en-US</dc:language>
  <cp:lastModifiedBy>Геттих М.В.</cp:lastModifiedBy>
  <cp:lastPrinted>1999-10-14T12:59:21Z</cp:lastPrinted>
  <dcterms:modified xsi:type="dcterms:W3CDTF">1999-10-22T04:39:17Z</dcterms:modified>
  <cp:revision>38</cp:revision>
  <dc:subject/>
  <dc:title>Заголовок слайда отсутствует</dc:title>
</cp:coreProperties>
</file>